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4C0-B153-4C4E-947B-A7D30BE6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D3C-8C2E-4D4D-88FE-89252816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05F-1D68-4C47-9BD5-F0C280E1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B5D-E8B0-4461-8DE5-903DDC71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9F84-032B-47B3-8E50-2B695A11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B178-1214-4C78-804D-B785FC0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027D-045C-4D20-B1CF-F90AB7DD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5FFC-026B-422E-A7E2-558F728C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F150-C746-450F-A699-3196F359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2445-50C0-4C74-A953-EF2EC283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21E4-52EA-49C9-B2EF-42B6A175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84C-C502-43B8-924A-E6BD8564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515D-3E25-46DC-BF6F-A2236613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2761-8541-4FD5-A12E-8C2B2F1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2669-E2E7-4BC5-BDE7-5378D65C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CEC3-E7DA-4897-A334-C05B7258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DCED-9814-43C9-8B1E-A428583D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AED-6CCB-4AA3-A8F2-E1604AA5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3A7-5177-4350-99C1-AD525A93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D45-DEEC-4B79-92D7-4C9FCF25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062-7B07-47D2-A7E7-1C3AC4F2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D82-0D7D-4ADB-A3F7-33D6DAB7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956-218F-4BE0-89F5-3F299411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F2C-ED7A-46FF-A0DF-2C79B200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9D0B-18EA-4E18-876C-20CAF3B1B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4A82-2077-4DD5-B3A5-17AFE748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000000"/>
                </a:solidFill>
                <a:latin typeface="Verdana"/>
              </a:rPr>
              <a:t>Carmen Martín Gai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29718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800" spc="-1" strike="noStrike">
                <a:solidFill>
                  <a:srgbClr val="000000"/>
                </a:solidFill>
                <a:latin typeface="Verdana"/>
              </a:rPr>
              <a:t>Española (1925-20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El an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¿Qué piensas que significa para la autora la palabra “ataduras”?  ¿Estás de acuerdo con ell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Datos biográf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Fue niña durante la Guerra Civil Española (1936-1939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mpezó a publicar seriamente durante los años cincu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Es miembro del grupo literario </a:t>
            </a:r>
            <a:r>
              <a:rPr b="0" i="1" lang="es-DO" sz="3000" spc="-1" strike="noStrike">
                <a:solidFill>
                  <a:srgbClr val="000000"/>
                </a:solidFill>
                <a:latin typeface="Verdana"/>
              </a:rPr>
              <a:t>La generación de los cincu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Nació en Salamanca donde vivió hasta terminar la univers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Datos biográf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n 1948, se mudó a Madrid para buscar su doctorado y trabaj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Con su doctorado, fue profesora de visitante en varias univesidades americanas e hizo muchas conferencias y discru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Fue amiga de muchos escritores quienes se inspiraron, se animaron y se criticar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La narr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Fue inspirada profundamente por la época en la que tuvo que viv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Describe su realidad de muchos ángulos diferen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El recuerdo de la guerra y las miserias de la posguer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xamina el impacto social en la vida del individu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La mujer poco preparada para enfrentarse al mu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mujer en la sociedad españo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impacto social en la vida del individu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contraste entre el pueblo y la ciu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deseo de escapar lo que nos 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miedo a la libert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falta de la comunic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problemática femin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sole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falta de la comunic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desigualdad respecto del hom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s amistades son muy importa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Requieren mantenimiento para no perderl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No se debe ejercer niguna influencia sobre los amig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Esti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Sus personajes son normales, vulgares, presentados en un momento cualquiera de su vi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Sus personajes se enfrentan a un crisis existen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os personajes son lúcidos y poco conven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Usa lenguaje cuidadoso y de gran precis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Usa muchos detal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El an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xplica la importancia del río como símbolo. Menciona ejemplos.  ¿Qué representa en este relat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s ataduras” está dividido en cinco partes y tiene una estructura muy delineada.  Observa y analiza las distintas secuencias y las diferentes voces narrativas y perspectiv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Comenta los saltos temporales y los cambios en los tiempos verb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El an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xplica qué relación tiene el aspecto formal con el contenido del cuen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Tanto en este relato como en “Las medias rojas”, las protagonistas son jóvenes gallegas que sueñan con salir del ambiente en que viven y mejorar su situación en un sitio nuevo.  Compara las vidas de Alina e Ildar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¿Cuál es el tema subyacente de esta histori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21:42:49Z</dcterms:created>
  <dc:creator>Cameron  Stephen</dc:creator>
  <dc:description/>
  <dc:language>en-US</dc:language>
  <cp:lastModifiedBy>Mami</cp:lastModifiedBy>
  <cp:lastPrinted>2002-09-26T16:35:13Z</cp:lastPrinted>
  <dcterms:modified xsi:type="dcterms:W3CDTF">2010-07-20T03:52:50Z</dcterms:modified>
  <cp:revision>11</cp:revision>
  <dc:subject/>
  <dc:title>Horacio Quiroga</dc:title>
</cp:coreProperties>
</file>